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045-2BC6-4C20-A5CF-691C6F7E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FCC-AFFD-4B6D-8425-2B07AC4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798-4A99-4AD1-83A5-E6734605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0A0-704E-4EEF-B72E-72BEA34C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DB04-E6BC-4C93-A61F-5E29F17E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856A-8008-4FF6-A5AD-795B68C2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17BA-7F26-4AF2-8A59-EF3E071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09517-DAB7-4442-BBEC-8DDFCA8A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81E5-89A5-4884-860A-CF522764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E27D-807C-4303-BDDB-FEBBB0C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A0C5F-38C9-41B3-8EED-DA82AED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B36-F30D-4F3B-AD80-C336E14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E8812-3A10-48C1-8514-3A32D45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4BF2-4DD1-43EE-AFE7-06F06E4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A4DFF-8D8F-4404-AA18-37CEF39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0C24-55BC-4698-B336-9A9A4BC7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584A2-D314-4F1A-BA16-D59CC3C8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391-0B66-4D88-97BF-86498762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CE2-6A73-4EDD-84B5-96FBA05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4A3-0469-487C-9F9E-2A44C65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386-37B8-45C4-94BD-F28F2477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C40-D2BE-49E4-875E-498CA66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729-4902-4C9D-96A8-79157A5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083-80DB-4432-91D2-779FEAF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E74-8FAA-4E5D-BCA9-D1FC270542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FD5-3A9A-404F-B615-918B0281D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La mansi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  <a:ea typeface="Arial"/>
              </a:rPr>
              <a:t>ó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Sav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de5"/>
                </a:solidFill>
                <a:latin typeface="Arial"/>
              </a:rPr>
              <a:t>La mansi</a:t>
            </a:r>
            <a:r>
              <a:rPr b="0" lang="en-US" sz="4400" spc="-1" strike="noStrike">
                <a:solidFill>
                  <a:srgbClr val="ebfde5"/>
                </a:solidFill>
                <a:latin typeface="Arial"/>
                <a:ea typeface="Arial"/>
              </a:rPr>
              <a:t>ó</a:t>
            </a:r>
            <a:r>
              <a:rPr b="0" lang="en-US" sz="4400" spc="-1" strike="noStrike">
                <a:solidFill>
                  <a:srgbClr val="ebfde5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mansion. Es muy grande and lujo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 Es moderno y incr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a Coc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omedor. Es bonito y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uarto. Es estupendo y bel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s el ba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o. Es bello y nuve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atio. Es magnifico y mo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jardin. Es muy grande y bon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garaje. Es nuevo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48Z</dcterms:created>
  <dc:creator>savageben</dc:creator>
  <dc:description/>
  <dc:language>en-US</dc:language>
  <cp:lastModifiedBy>savageben</cp:lastModifiedBy>
  <dcterms:modified xsi:type="dcterms:W3CDTF">2013-04-03T17:50:31Z</dcterms:modified>
  <cp:revision>7</cp:revision>
  <dc:subject/>
  <dc:title>La cabana</dc:title>
</cp:coreProperties>
</file>